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Q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Q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9383E-E4AD-47AF-9D53-000F494E7E90}" type="slidenum">
              <a:rPr b="0" lang="ar-Q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Q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9E997-C811-4E5A-A817-51F1BFBF1861}" type="slidenum">
              <a:rPr b="0" lang="ar-Q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Q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FBD10-86A7-4A9F-BE61-1A086CD4EA77}" type="slidenum">
              <a:rPr b="0" lang="ar-Q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6ADE-CE29-4E5E-A3C6-7160C2F1D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7CD3-D4ED-4C94-98CD-B98C36B43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F37E-3F31-4E0E-BC9F-2C5ECE959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2088-86DB-4838-AB0C-260ED0F5D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93C5-D98D-47CA-A02E-D86D8AC35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0E2D-6B1A-470E-B9DE-ABD7915D3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9151-385D-496B-9306-FA35F08D0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D10F-D488-41D8-AE65-15253ED9C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8273-5375-4899-82D6-5A2C8D876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6A75-2409-4DB5-8A90-F4037A3B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5C05-D4F5-4717-A115-AAAA1955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F6EB-92FA-493C-8E88-6C2863A5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Q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Q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8D4AB-E897-43B8-9629-902122B77992}" type="slidenum">
              <a:rPr b="0" lang="ar-Q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Title 1"/>
          <p:cNvGrpSpPr/>
          <p:nvPr/>
        </p:nvGrpSpPr>
        <p:grpSpPr>
          <a:xfrm>
            <a:off x="480960" y="907920"/>
            <a:ext cx="7888320" cy="1689120"/>
            <a:chOff x="480960" y="907920"/>
            <a:chExt cx="7888320" cy="1689120"/>
          </a:xfrm>
        </p:grpSpPr>
        <p:pic>
          <p:nvPicPr>
            <p:cNvPr id="49" name="Title 1" descr=""/>
            <p:cNvPicPr/>
            <p:nvPr/>
          </p:nvPicPr>
          <p:blipFill>
            <a:blip r:embed="rId1"/>
            <a:stretch/>
          </p:blipFill>
          <p:spPr>
            <a:xfrm>
              <a:off x="480960" y="907920"/>
              <a:ext cx="7888320" cy="168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539640" y="1052640"/>
              <a:ext cx="7772400" cy="14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QA" sz="4400" spc="-1" strike="noStrike">
                  <a:solidFill>
                    <a:srgbClr val="ff0000"/>
                  </a:solidFill>
                  <a:latin typeface="Calibri"/>
                </a:rPr>
                <a:t> الوحدة الثالثة</a:t>
              </a:r>
              <a:br>
                <a:rPr sz="4400"/>
              </a:br>
              <a:r>
                <a:rPr b="1" lang="ar-QA" sz="4400" spc="-1" strike="noStrike">
                  <a:solidFill>
                    <a:srgbClr val="ff0000"/>
                  </a:solidFill>
                  <a:latin typeface="Calibri"/>
                </a:rPr>
                <a:t>الدرس الرابع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" name="Subtitle 2"/>
          <p:cNvGrpSpPr/>
          <p:nvPr/>
        </p:nvGrpSpPr>
        <p:grpSpPr>
          <a:xfrm>
            <a:off x="1305000" y="2786040"/>
            <a:ext cx="6607080" cy="1962000"/>
            <a:chOff x="1305000" y="2786040"/>
            <a:chExt cx="6607080" cy="1962000"/>
          </a:xfrm>
        </p:grpSpPr>
        <p:pic>
          <p:nvPicPr>
            <p:cNvPr id="52" name="Subtitle 2" descr=""/>
            <p:cNvPicPr/>
            <p:nvPr/>
          </p:nvPicPr>
          <p:blipFill>
            <a:blip r:embed="rId2"/>
            <a:stretch/>
          </p:blipFill>
          <p:spPr>
            <a:xfrm>
              <a:off x="1305000" y="2786040"/>
              <a:ext cx="6607080" cy="196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403280" y="2924280"/>
              <a:ext cx="64008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spcBef>
                  <a:spcPts val="10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QA" sz="4100" spc="-1" strike="noStrike">
                  <a:solidFill>
                    <a:srgbClr val="ff0000"/>
                  </a:solidFill>
                  <a:latin typeface="Calibri"/>
                </a:rPr>
                <a:t>الأجسام المضادة والتطعيم</a:t>
              </a:r>
              <a:endParaRPr b="0" lang="en-US" sz="4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spcBef>
                  <a:spcPts val="10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100" spc="-1" strike="noStrike">
                  <a:solidFill>
                    <a:srgbClr val="ff0000"/>
                  </a:solidFill>
                  <a:latin typeface="Calibri"/>
                </a:rPr>
                <a:t>Antibodies and Vaccination</a:t>
              </a:r>
              <a:endParaRPr b="0" lang="en-US" sz="4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spcBef>
                  <a:spcPts val="10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spcBef>
                  <a:spcPts val="10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spcBef>
                  <a:spcPts val="10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spcBef>
                  <a:spcPts val="10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spcBef>
                  <a:spcPts val="10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spcBef>
                  <a:spcPts val="10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spcBef>
                  <a:spcPts val="10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spcBef>
                  <a:spcPts val="10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spcBef>
                  <a:spcPts val="10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spcBef>
                  <a:spcPts val="10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spcBef>
                  <a:spcPts val="10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spcBef>
                  <a:spcPts val="10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spcBef>
                  <a:spcPts val="10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spcBef>
                  <a:spcPts val="10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spcBef>
                  <a:spcPts val="10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39640" y="1484280"/>
            <a:ext cx="8229600" cy="2509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9000"/>
          </a:bodyPr>
          <a:p>
            <a:pPr marL="339480" indent="-339480" algn="r" rtl="1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1f497d"/>
                </a:solidFill>
                <a:latin typeface="Arial"/>
              </a:rPr>
              <a:t>1</a:t>
            </a:r>
            <a:r>
              <a:rPr b="1" lang="ar-QA" sz="2800" spc="-1" strike="noStrike">
                <a:solidFill>
                  <a:srgbClr val="1f497d"/>
                </a:solidFill>
                <a:latin typeface="Arial"/>
              </a:rPr>
              <a:t>- أنواع خطوط الدفاع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nes of defense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000000"/>
                </a:solidFill>
                <a:latin typeface="Arial"/>
              </a:rPr>
              <a:t>خط دفاع الأول يعمل ضدّ المواد الضارة والكائنات الحية المسببة للأمراض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000000"/>
                </a:solidFill>
                <a:latin typeface="Arial"/>
              </a:rPr>
              <a:t>خط دفاع ثاني يعمل ضدّ مسببات أمراض معينة ويمثل جهاز المناعة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755640" y="54936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1f497d"/>
                </a:solidFill>
                <a:latin typeface="Calibri"/>
              </a:rPr>
              <a:t>خطوط دفاع الجسم ضد الأمراض  </a:t>
            </a:r>
            <a:r>
              <a:rPr b="1" lang="fr-FR" sz="3200" spc="-1" strike="noStrike">
                <a:solidFill>
                  <a:srgbClr val="1f497d"/>
                </a:solidFill>
                <a:latin typeface="Calibri"/>
              </a:rPr>
              <a:t>Lines of defen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1f497d"/>
                </a:solidFill>
                <a:latin typeface="Calibri"/>
                <a:ea typeface="Arial"/>
              </a:rPr>
              <a:t>2</a:t>
            </a:r>
            <a:r>
              <a:rPr b="1" lang="ar-QA" sz="3600" spc="-1" strike="noStrike">
                <a:solidFill>
                  <a:srgbClr val="1f497d"/>
                </a:solidFill>
                <a:latin typeface="Calibri"/>
                <a:ea typeface="Arial"/>
              </a:rPr>
              <a:t>- خط الدفاع الأول 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First line defen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88000"/>
          </a:bodyPr>
          <a:p>
            <a:pPr marL="301680" indent="-3016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000" spc="-1" strike="noStrike">
                <a:solidFill>
                  <a:srgbClr val="000000"/>
                </a:solidFill>
                <a:latin typeface="Calibri"/>
              </a:rPr>
              <a:t>- يمثل الجلد, الجهاز التنفسي, الجهاز الهضمي والجهاز الدوراني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QA" sz="3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QA" sz="3000" spc="-1" strike="noStrike">
                <a:solidFill>
                  <a:srgbClr val="000000"/>
                </a:solidFill>
                <a:latin typeface="Calibri"/>
              </a:rPr>
              <a:t>يعمل الجهاز التنفسي عن طريق المخاط المبطن الذي يضعف الجدار الخلوي لبعض مسببات المرض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000" spc="-1" strike="noStrike">
                <a:solidFill>
                  <a:srgbClr val="000000"/>
                </a:solidFill>
                <a:latin typeface="Calibri"/>
              </a:rPr>
              <a:t>الجهاز الهضمي يعتمد على اللعاب, الأنزيمات والحمض الهيدكلوريك والمخاط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000" spc="-1" strike="noStrike">
                <a:solidFill>
                  <a:srgbClr val="000000"/>
                </a:solidFill>
                <a:latin typeface="Calibri"/>
              </a:rPr>
              <a:t>يحتوي جهاز الدوران على خلايا الدم البيضاء التي تهضم المواد الغريبة في الجسم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0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1f497d"/>
                </a:solidFill>
                <a:latin typeface="Calibri"/>
                <a:ea typeface="Arial"/>
              </a:rPr>
              <a:t>3</a:t>
            </a:r>
            <a:r>
              <a:rPr b="1" lang="ar-QA" sz="3600" spc="-1" strike="noStrike">
                <a:solidFill>
                  <a:srgbClr val="1f497d"/>
                </a:solidFill>
                <a:latin typeface="Calibri"/>
                <a:ea typeface="Arial"/>
              </a:rPr>
              <a:t>- </a:t>
            </a:r>
            <a:r>
              <a:rPr b="1" lang="ar-QA" sz="2800" spc="-1" strike="noStrike">
                <a:solidFill>
                  <a:srgbClr val="1f497d"/>
                </a:solidFill>
                <a:latin typeface="Calibri"/>
                <a:cs typeface="Arial"/>
              </a:rPr>
              <a:t>خط الدفاع الثاني(المناعة النوعية)  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pecific immun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78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Calibri"/>
              </a:rPr>
              <a:t>- إذا استطاعت مسببات المرض اختراق خطوط الدفاع الأول فإن الجسم يلجأ إلى خط الدفاع الثاني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Calibri"/>
              </a:rPr>
              <a:t>- تحطم خلايا اللمفاوية (الخلايا التائية) المواد الغريبة الدخيلة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Calibri"/>
              </a:rPr>
              <a:t>تنتج الخلايا البائية الأجسام المضادة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ntibod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Calibri"/>
              </a:rPr>
              <a:t>- تحتوي الخلايا البائية الذاكرة </a:t>
            </a:r>
            <a:r>
              <a:rPr b="1" lang="ar-QA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Memory B cells</a:t>
            </a:r>
            <a:r>
              <a:rPr b="1" lang="ar-QA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QA" sz="2800" spc="-1" strike="noStrike">
                <a:solidFill>
                  <a:srgbClr val="000000"/>
                </a:solidFill>
                <a:latin typeface="Calibri"/>
              </a:rPr>
              <a:t>على أجسام مضادة لتكون جاهزة لمواجهة أي هجوم جديد من مسبب المرض نفس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1f497d"/>
                </a:solidFill>
                <a:latin typeface="Calibri"/>
                <a:ea typeface="Arial"/>
              </a:rPr>
              <a:t>4</a:t>
            </a:r>
            <a:r>
              <a:rPr b="1" lang="ar-QA" sz="3600" spc="-1" strike="noStrike">
                <a:solidFill>
                  <a:srgbClr val="1f497d"/>
                </a:solidFill>
                <a:latin typeface="Calibri"/>
                <a:ea typeface="Arial"/>
              </a:rPr>
              <a:t>- </a:t>
            </a:r>
            <a:r>
              <a:rPr b="1" lang="ar-QA" sz="2800" spc="-1" strike="noStrike">
                <a:solidFill>
                  <a:srgbClr val="1f497d"/>
                </a:solidFill>
                <a:latin typeface="Calibri"/>
                <a:cs typeface="Arial"/>
              </a:rPr>
              <a:t>تكوين المناعة  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Formation immun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24000" y="155736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78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7030a0"/>
                </a:solidFill>
                <a:latin typeface="Calibri"/>
              </a:rPr>
              <a:t>أ- المناعة الطبيعية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ctive immunity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Calibri"/>
              </a:rPr>
              <a:t>خلال المناعة الطبيعية ينتج الجسم الأجسام المضاد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7030a0"/>
                </a:solidFill>
                <a:latin typeface="Calibri"/>
              </a:rPr>
              <a:t>ب- المناعة الاصطناعية </a:t>
            </a:r>
            <a:r>
              <a:rPr b="1" lang="ar-QA" sz="2800" spc="-1" strike="noStrike">
                <a:solidFill>
                  <a:srgbClr val="000000"/>
                </a:solidFill>
                <a:latin typeface="Calibri"/>
              </a:rPr>
              <a:t>تحدث المناعة الاصطناعية</a:t>
            </a:r>
            <a:r>
              <a:rPr b="1" lang="ar-QA" sz="2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ar-QA" sz="2800" spc="-1" strike="noStrike">
                <a:solidFill>
                  <a:srgbClr val="000000"/>
                </a:solidFill>
                <a:latin typeface="Calibri"/>
              </a:rPr>
              <a:t>عندما يحقن الجسم بالأجسام المضادة التي أنتجتها حيوانات لأخرى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7030a0"/>
                </a:solidFill>
                <a:latin typeface="Calibri"/>
              </a:rPr>
              <a:t>ث- </a:t>
            </a:r>
            <a:r>
              <a:rPr b="1" lang="ar-QA" sz="2800" spc="-1" strike="noStrike">
                <a:solidFill>
                  <a:srgbClr val="000000"/>
                </a:solidFill>
                <a:latin typeface="Calibri"/>
              </a:rPr>
              <a:t>لا تدوم المناعة الاصطناعية طويلا بخلاف المناعة الطبيعي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1f497d"/>
                </a:solidFill>
                <a:latin typeface="Calibri"/>
                <a:ea typeface="Arial"/>
              </a:rPr>
              <a:t>5</a:t>
            </a:r>
            <a:r>
              <a:rPr b="1" lang="ar-QA" sz="3600" spc="-1" strike="noStrike">
                <a:solidFill>
                  <a:srgbClr val="1f497d"/>
                </a:solidFill>
                <a:latin typeface="Calibri"/>
                <a:ea typeface="Arial"/>
              </a:rPr>
              <a:t>- </a:t>
            </a:r>
            <a:r>
              <a:rPr b="1" lang="ar-QA" sz="2800" spc="-1" strike="noStrike">
                <a:solidFill>
                  <a:srgbClr val="1f497d"/>
                </a:solidFill>
                <a:latin typeface="Calibri"/>
                <a:cs typeface="Arial"/>
              </a:rPr>
              <a:t>التطعيم (التحصين )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Vaccin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24000" y="155736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2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Calibri"/>
              </a:rPr>
              <a:t>هو طريقة أخرى لتكوين المناعة الطبيعي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Calibri"/>
              </a:rPr>
              <a:t>تتمثل في الحصول على </a:t>
            </a:r>
            <a:r>
              <a:rPr b="1" lang="ar-QA" sz="2800" spc="-1" strike="noStrike">
                <a:solidFill>
                  <a:srgbClr val="7030a0"/>
                </a:solidFill>
                <a:latin typeface="Calibri"/>
              </a:rPr>
              <a:t>الطّعم  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Vaccine</a:t>
            </a:r>
            <a:r>
              <a:rPr b="1" lang="ar-QA" sz="2800" spc="-1" strike="noStrike">
                <a:solidFill>
                  <a:srgbClr val="ff0000"/>
                </a:solidFill>
                <a:latin typeface="Calibri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Calibri"/>
              </a:rPr>
              <a:t>الطعم هو مسبب للمرض ضعيف يحفز الجسم على إنتاج أجسام مضادة دون أن يصاب الشخص بالمر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1f497d"/>
                </a:solidFill>
                <a:latin typeface="Calibri"/>
                <a:ea typeface="Arial"/>
              </a:rPr>
              <a:t>6</a:t>
            </a:r>
            <a:r>
              <a:rPr b="1" lang="ar-QA" sz="3600" spc="-1" strike="noStrike">
                <a:solidFill>
                  <a:srgbClr val="1f497d"/>
                </a:solidFill>
                <a:latin typeface="Calibri"/>
                <a:ea typeface="Arial"/>
              </a:rPr>
              <a:t>- </a:t>
            </a:r>
            <a:r>
              <a:rPr b="1" lang="ar-QA" sz="2800" spc="-1" strike="noStrike">
                <a:solidFill>
                  <a:srgbClr val="1f497d"/>
                </a:solidFill>
                <a:latin typeface="Calibri"/>
                <a:cs typeface="Arial"/>
              </a:rPr>
              <a:t>فيروس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HIV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ar-QA" sz="2800" spc="-1" strike="noStrike">
                <a:solidFill>
                  <a:srgbClr val="1f497d"/>
                </a:solidFill>
                <a:latin typeface="Calibri"/>
                <a:cs typeface="Arial"/>
              </a:rPr>
              <a:t>وجهاز المناعة   </a:t>
            </a:r>
            <a:r>
              <a:rPr b="1" lang="fr-FR" sz="2800" spc="-1" strike="noStrike">
                <a:solidFill>
                  <a:srgbClr val="1f497d"/>
                </a:solidFill>
                <a:latin typeface="Calibri"/>
              </a:rPr>
              <a:t>HIV and your immu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24000" y="155736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81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ff0000"/>
                </a:solidFill>
                <a:latin typeface="Calibri"/>
              </a:rPr>
              <a:t>انتقال المرض الإيد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00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Calibri"/>
              </a:rPr>
              <a:t>يهاجم فيروس نقص المناعة المكتسبة (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IV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QA" sz="2800" spc="-1" strike="noStrike">
                <a:solidFill>
                  <a:srgbClr val="000000"/>
                </a:solidFill>
                <a:latin typeface="Calibri"/>
              </a:rPr>
              <a:t>)  الدم وسوائل الجسم المختلف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00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Calibri"/>
              </a:rPr>
              <a:t>يصاب الشخص بفيروس </a:t>
            </a:r>
            <a:r>
              <a:rPr b="1" lang="ar-QA" sz="2800" spc="-1" strike="noStrike">
                <a:solidFill>
                  <a:srgbClr val="ff0000"/>
                </a:solidFill>
                <a:latin typeface="Calibri"/>
              </a:rPr>
              <a:t>الإيدز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IDS</a:t>
            </a:r>
            <a:r>
              <a:rPr b="1" lang="ar-QA" sz="2800" spc="-1" strike="noStrike">
                <a:solidFill>
                  <a:srgbClr val="000000"/>
                </a:solidFill>
                <a:latin typeface="Calibri"/>
              </a:rPr>
              <a:t> خلال الاتصال الجنسي أوعند استعمال الحقن الملوثة بهذا الفيرو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00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Calibri"/>
              </a:rPr>
              <a:t>ينتقل المرض من الأم المصابة إلى الجنين عبر المشيم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00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1f497d"/>
                </a:solidFill>
                <a:latin typeface="Calibri"/>
                <a:ea typeface="Arial"/>
              </a:rPr>
              <a:t>7</a:t>
            </a:r>
            <a:r>
              <a:rPr b="1" lang="ar-QA" sz="3600" spc="-1" strike="noStrike">
                <a:solidFill>
                  <a:srgbClr val="1f497d"/>
                </a:solidFill>
                <a:latin typeface="Calibri"/>
                <a:ea typeface="Arial"/>
              </a:rPr>
              <a:t>- </a:t>
            </a:r>
            <a:r>
              <a:rPr b="1" lang="ar-QA" sz="2800" spc="-1" strike="noStrike">
                <a:solidFill>
                  <a:srgbClr val="1f497d"/>
                </a:solidFill>
                <a:latin typeface="Calibri"/>
                <a:cs typeface="Arial"/>
              </a:rPr>
              <a:t>فيروس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HIV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ar-QA" sz="2800" spc="-1" strike="noStrike">
                <a:solidFill>
                  <a:srgbClr val="1f497d"/>
                </a:solidFill>
                <a:latin typeface="Calibri"/>
                <a:cs typeface="Arial"/>
              </a:rPr>
              <a:t>وجهاز المناعة   </a:t>
            </a:r>
            <a:r>
              <a:rPr b="1" lang="fr-FR" sz="2800" spc="-1" strike="noStrike">
                <a:solidFill>
                  <a:srgbClr val="1f497d"/>
                </a:solidFill>
                <a:latin typeface="Calibri"/>
              </a:rPr>
              <a:t>HIV and your immu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24000" y="155736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82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ff0000"/>
                </a:solidFill>
                <a:latin typeface="Calibri"/>
              </a:rPr>
              <a:t>تأثير الإيدز على المناع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00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Calibri"/>
              </a:rPr>
              <a:t>يسبب نقص المناع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00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Calibri"/>
              </a:rPr>
              <a:t>يهاجم الفيروس الخلايا التائية في جهاز المناعة ويتضاعف بداخلها فتنفجر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00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Calibri"/>
              </a:rPr>
              <a:t>ينتج عن ذلك لاتستثار أعداد كافية من الخلايا البائية لإنتاج الأجسام المضادة ومحاربة الفيرو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00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1f497d"/>
                </a:solidFill>
                <a:latin typeface="Calibri"/>
                <a:ea typeface="Arial"/>
              </a:rPr>
              <a:t>8</a:t>
            </a:r>
            <a:r>
              <a:rPr b="1" lang="ar-QA" sz="3600" spc="-1" strike="noStrike">
                <a:solidFill>
                  <a:srgbClr val="1f497d"/>
                </a:solidFill>
                <a:latin typeface="Calibri"/>
                <a:ea typeface="Arial"/>
              </a:rPr>
              <a:t>- </a:t>
            </a:r>
            <a:r>
              <a:rPr b="1" lang="ar-QA" sz="2800" spc="-1" strike="noStrike">
                <a:solidFill>
                  <a:srgbClr val="1f497d"/>
                </a:solidFill>
                <a:latin typeface="Calibri"/>
                <a:cs typeface="Arial"/>
              </a:rPr>
              <a:t>الملاريا   </a:t>
            </a:r>
            <a:r>
              <a:rPr b="1" lang="fr-FR" sz="2800" spc="-1" strike="noStrike">
                <a:solidFill>
                  <a:srgbClr val="1f497d"/>
                </a:solidFill>
                <a:latin typeface="Calibri"/>
              </a:rPr>
              <a:t>Mala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4000" y="155736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6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00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Calibri"/>
              </a:rPr>
              <a:t>يصاب الإنسان بمرض الملاريا بسبب طفيل يسمى البلازموديوم وينتقل إلى جسم الإنسان بواسطة أنثى بعوضة الأنوفيل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00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Calibri"/>
              </a:rPr>
              <a:t>من أعراضه ارتفاع درجة الحرارة والبرد والصدا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2T18:51:38Z</dcterms:created>
  <dc:creator>Windows User</dc:creator>
  <dc:description/>
  <dc:language>en-US</dc:language>
  <cp:lastModifiedBy>ICT QATAR</cp:lastModifiedBy>
  <dcterms:modified xsi:type="dcterms:W3CDTF">2012-11-06T16:19:25Z</dcterms:modified>
  <cp:revision>202</cp:revision>
  <dc:subject/>
  <dc:title>الدرس الثاني</dc:title>
</cp:coreProperties>
</file>